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4DE-16BC-4286-8324-AA9E8FCE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832-5107-4ED8-8250-E2A96437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58C-210C-4D95-A86E-68C8417A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097-B0F0-4329-8CA1-26DFDAEA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826-C843-4DDA-B242-791E35F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E14-7D2F-4D3A-8B5D-2386694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36F-8BC5-4045-A90E-438EFB60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316-B40E-4804-8591-040797D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00A-E8B1-429F-B448-168DD930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858-EF01-428D-BE2A-01D4AD8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82B-A02B-4AC4-B412-955F3D19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700-D447-45F4-A6EE-7B5ACFD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7F0-1D4D-46F7-86C7-3EAA74BC2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Bodoni MT Black"/>
              </a:rPr>
              <a:t>By Erica Grasberger and Ben Stur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a casa esta localizada en Dover Sherborn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ssachuset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a en la calle Bosque de la c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uesta 800,000,000,000,000,000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uy muy muy mu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urlz MT"/>
              </a:rPr>
              <a:t>El Cua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4294080"/>
            <a:ext cx="4267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urlz MT"/>
              </a:rPr>
              <a:t>hay 21 cua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Curlz MT"/>
              </a:rPr>
              <a:t>El cuartos es incredible, y impresion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n la sala 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hay un sofá de piel Leap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una televisión de pantalla pl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una chime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la alfombra está hecha de terciopelo muy c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l techo está hecho de madera de roble de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l </a:t>
            </a:r>
            <a:r>
              <a:rPr b="0" lang="es-ES" sz="4400" spc="-1" strike="noStrike">
                <a:solidFill>
                  <a:srgbClr val="9900cc"/>
                </a:solidFill>
                <a:latin typeface="Arial"/>
              </a:rPr>
              <a:t>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Doce m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El comedor es grande, moderno,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El ba</a:t>
            </a:r>
            <a:r>
              <a:rPr b="0" lang="es-ES" sz="4400" spc="-1" strike="noStrike">
                <a:solidFill>
                  <a:srgbClr val="ff3300"/>
                </a:solidFill>
                <a:latin typeface="Comic Sans MS"/>
              </a:rPr>
              <a:t>ñ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hay ocho cuartos de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00"/>
                </a:solidFill>
                <a:latin typeface="Comic Sans MS"/>
              </a:rPr>
              <a:t>El ba</a:t>
            </a: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ño en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rimer piso, </a:t>
            </a: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segundo piso, tercer p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El inodoro es en el b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El baño es bonito, bello, y estup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a coci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y tres coci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viene con: una nevera con un televisor en la que, una estufa de oro y microondas plant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La cocina incred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ormitorios bajo el a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ay nueve dormit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l dormitorios </a:t>
            </a: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se encuentran bajo el a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99"/>
                </a:solidFill>
                <a:latin typeface="Arial"/>
              </a:rPr>
              <a:t>El dormitorios es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152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1676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l garaje es lujoso y magni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39625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el garaje se Undergr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5:39:08Z</dcterms:created>
  <dc:creator>sturgisben</dc:creator>
  <dc:description/>
  <dc:language>en-US</dc:language>
  <cp:lastModifiedBy>sturgisben</cp:lastModifiedBy>
  <dcterms:modified xsi:type="dcterms:W3CDTF">2012-05-23T18:45:06Z</dcterms:modified>
  <cp:revision>5</cp:revision>
  <dc:subject/>
  <dc:title>La casa</dc:title>
</cp:coreProperties>
</file>